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7200" cy="25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P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30B9B6-F0E1-45BB-B7E6-8C28390E43B9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1A7250-2356-4C9D-A426-DEB8B78CFEAA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2F3955-BECE-473B-88E6-87E0E668CA1B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A68FA7-D3C0-417F-BE34-87C99973E975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C71BB1-DC63-40D4-A878-A8F1F6CCF312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E486F1-A981-4637-A96E-C4DD17756174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1C356C-DAB7-40E0-B9DD-CFF179C7772F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5E7FF9-CD41-43D7-86E2-F454D3FCF149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F3EA72-7F78-49D2-8F84-C49E8DCFA299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CC8137-D007-43E2-9678-8446FA8F3E3F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E088-1794-472F-9778-2FF8367F9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4C35-3F97-4CA5-A1EF-A28D4EFC1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25B4-A1A8-4DA6-8F14-C71F656E4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56B8-B02A-40D0-969A-1E010F6DE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8369-A912-4EF3-B0C3-83392D3B3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3FCE-A37A-4C6C-9AEB-C8508D70C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EB87-4776-4ABB-A2C8-C497A1B3B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0009-4AE8-406A-BDD4-D0115BA5F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4706-931E-4BD9-B2A2-48533E39A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9595-339B-430A-B3C2-518F1FD95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F82-7C0C-44C4-91D2-1E7B4ECB4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F0A8-3F57-47FF-B964-57E1031C2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P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568D10-A02D-4BAA-B840-8922343701B6}" type="slidenum">
              <a:rPr b="0" lang="es-P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APA%20CONCEPTOS%20COMPUTADORA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duteka.org/modulos.php?catx=4&amp;idSubX=8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teka.org/modulos.php?catx=4&amp;idSubX=88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992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MAPAS DE CONCEPTOS</a:t>
            </a:r>
            <a:br>
              <a:rPr sz="4000"/>
            </a:br>
            <a:br>
              <a:rPr sz="4000"/>
            </a:b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Organizadores 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447920"/>
            <a:ext cx="82296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11080" indent="-811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jempl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cuando usted desea esquematizar una información para estudiar?  Usted trabaja u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581280"/>
            <a:ext cx="3886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2960" indent="-45576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imer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gundo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A.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B.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1.  Sub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2. Sub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III.  Tercer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8077320" y="57913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52280 h 838080"/>
              <a:gd name="textAreaBottom" fmla="*/ 609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55" stAng="-5400000" swAng="5400000"/>
                <a:lnTo>
                  <a:pt x="21600" y="11782"/>
                </a:lnTo>
                <a:arcTo wR="21600" hR="7855" stAng="0" swAng="3277398"/>
                <a:lnTo>
                  <a:pt x="5400" y="21351"/>
                </a:lnTo>
                <a:lnTo>
                  <a:pt x="0" y="17673"/>
                </a:lnTo>
                <a:lnTo>
                  <a:pt x="5400" y="13496"/>
                </a:lnTo>
                <a:lnTo>
                  <a:pt x="5400" y="15460"/>
                </a:lnTo>
                <a:arcTo wR="21600" hR="7855" stAng="3277398" swAng="-2955593"/>
                <a:lnTo>
                  <a:pt x="20914" y="9818"/>
                </a:lnTo>
                <a:arcTo wR="21600" hR="7855" stAng="-321805" swAng="-5078195"/>
                <a:close/>
              </a:path>
              <a:path fill="darkenLess" w="21600" h="21600">
                <a:moveTo>
                  <a:pt x="0" y="0"/>
                </a:moveTo>
                <a:arcTo wR="21600" hR="7855" stAng="-5400000" swAng="5400000"/>
                <a:lnTo>
                  <a:pt x="21600" y="11782"/>
                </a:lnTo>
                <a:arcTo wR="21600" hR="7855" stAng="0" swAng="-321805"/>
                <a:lnTo>
                  <a:pt x="20914" y="9818"/>
                </a:lnTo>
                <a:arcTo wR="21600" hR="7855" stAng="-321805" swAng="-507819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e acuerdo a William Bl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Nuestras mentes trabajan como los sitios de Web:  grupos de páginas, ideas, conceptos que se unen conjun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Además, al igual que Ausubel, indica que el aprendizaje combina lo que usted ya sabe con lo que desea saber y vincula esta nueva información dentro de los depósitos de 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Arial"/>
                <a:ea typeface="Arial"/>
              </a:rPr>
              <a:t>¿Cuándo hacer el ma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38280"/>
          <a:ext cx="8229600" cy="389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14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organizar un te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un aprendizaje más profun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r viejo y nuevo conocimient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sar y prepararse para exáme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 gridSpan="2"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r notas/apu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car nuevas ideas en una estructu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bellino de ide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 gridSpan="2"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r ideas complej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l estudiante creará un mapa de conceptos que incluya una jerarquía de por lo menos, cuatro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Incluirá un mínimo de tres relaciones o frases descriptivas y por lo menos, un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exión o relaciones conectadas y un ejem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la creación del mismo, debe considerarse el concepto </a:t>
            </a:r>
            <a:r>
              <a:rPr b="0" lang="es-P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stema computadorizado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, sus componentes, los dispositivos o periferales básicos (equipo físico o hardware) y su interac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99920" y="1295280"/>
            <a:ext cx="7810560" cy="5224680"/>
            <a:chOff x="799920" y="1295280"/>
            <a:chExt cx="7810560" cy="5224680"/>
          </a:xfrm>
        </p:grpSpPr>
        <p:sp>
          <p:nvSpPr>
            <p:cNvPr id="87" name=""/>
            <p:cNvSpPr/>
            <p:nvPr/>
          </p:nvSpPr>
          <p:spPr>
            <a:xfrm>
              <a:off x="800280" y="1295280"/>
              <a:ext cx="7810200" cy="52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13360" y="3733920"/>
              <a:ext cx="62064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00720" y="3733920"/>
              <a:ext cx="51444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51160" y="1919160"/>
              <a:ext cx="148608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1640" y="1676520"/>
              <a:ext cx="180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2280" y="212256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879560" y="1919160"/>
              <a:ext cx="1633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70400" y="1919160"/>
              <a:ext cx="1515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81360" y="191916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15160" y="1919160"/>
              <a:ext cx="144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66920" y="2282760"/>
              <a:ext cx="1116000" cy="36504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CONCEP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PRINCIP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5760" y="2266920"/>
              <a:ext cx="1103400" cy="38088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CONCEPTO PRINCIP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6800" y="2266920"/>
              <a:ext cx="1069920" cy="39204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CONCEPTO PRINCIP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4680" y="2162160"/>
              <a:ext cx="981000" cy="48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MX" sz="7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1</a:t>
              </a:r>
              <a:r>
                <a:rPr b="0" lang="es-MX" sz="6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° NIVEL 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6920" y="2914560"/>
              <a:ext cx="1633680" cy="2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35680" y="2914560"/>
              <a:ext cx="163332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76640" y="2914560"/>
              <a:ext cx="148572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3960" y="2658960"/>
              <a:ext cx="144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44880" y="2658960"/>
              <a:ext cx="180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05440" y="2658960"/>
              <a:ext cx="180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6120" y="3127320"/>
              <a:ext cx="44928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93960" y="3127320"/>
              <a:ext cx="4460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408120" y="3127320"/>
              <a:ext cx="53820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44880" y="3127320"/>
              <a:ext cx="53496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370120" y="3127320"/>
              <a:ext cx="53676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05440" y="3127320"/>
              <a:ext cx="53496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2400" y="3368520"/>
              <a:ext cx="78408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4320" y="3368520"/>
              <a:ext cx="82080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368520"/>
              <a:ext cx="865440" cy="38268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7320" y="3368520"/>
              <a:ext cx="83664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4800" y="3368520"/>
              <a:ext cx="900360" cy="40032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73920" y="3368520"/>
              <a:ext cx="892080" cy="40032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13600" y="3416400"/>
              <a:ext cx="89208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MX" sz="600" spc="-1" strike="noStrike" u="sng">
                  <a:solidFill>
                    <a:srgbClr val="006600"/>
                  </a:solidFill>
                  <a:uFillTx/>
                  <a:latin typeface="Times New Roman"/>
                </a:rPr>
                <a:t>2° NIVEL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09520" y="4097160"/>
              <a:ext cx="1660680" cy="3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68720" y="4097160"/>
              <a:ext cx="163512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29360" y="4097160"/>
              <a:ext cx="1488960" cy="3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881000" y="3733920"/>
              <a:ext cx="51732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67040" y="4340160"/>
              <a:ext cx="14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5760" y="3733920"/>
              <a:ext cx="514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0200" y="3733920"/>
              <a:ext cx="51768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1640" y="4340160"/>
              <a:ext cx="18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02280" y="4340160"/>
              <a:ext cx="18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6920" y="4705200"/>
              <a:ext cx="1133280" cy="36360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ff6600"/>
                  </a:solidFill>
                  <a:latin typeface="Times New Roman"/>
                </a:rPr>
                <a:t>CONCEPT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5760" y="4705200"/>
              <a:ext cx="1158840" cy="36360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ff6600"/>
                  </a:solidFill>
                  <a:latin typeface="Times New Roman"/>
                </a:rPr>
                <a:t>CONCEPT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0720" y="4705200"/>
              <a:ext cx="1179360" cy="36360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ff6600"/>
                  </a:solidFill>
                  <a:latin typeface="Times New Roman"/>
                </a:rPr>
                <a:t>CONCEPT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88120" y="4700520"/>
              <a:ext cx="892080" cy="48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MX" sz="6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3° NIVEL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7840" y="5313240"/>
              <a:ext cx="163332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66920" y="5676840"/>
              <a:ext cx="1158840" cy="45108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660033"/>
                  </a:solidFill>
                  <a:latin typeface="Times New Roman"/>
                </a:rPr>
                <a:t>EJEMPL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3600" y="5592600"/>
              <a:ext cx="98280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 u="sng">
                  <a:solidFill>
                    <a:srgbClr val="660033"/>
                  </a:solidFill>
                  <a:uFillTx/>
                  <a:latin typeface="Times New Roman"/>
                </a:rPr>
                <a:t>4° NIVEL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9920" y="1649160"/>
              <a:ext cx="2116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67040" y="5070600"/>
              <a:ext cx="144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6148440" y="1798560"/>
              <a:ext cx="1189080" cy="222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Arial Black"/>
                </a:rPr>
                <a:t>Palabras</a:t>
              </a:r>
              <a:endPara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Arial Black"/>
                </a:rPr>
                <a:t>conectoras</a:t>
              </a:r>
              <a:endPara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1320" y="1311120"/>
              <a:ext cx="214632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333399"/>
                  </a:solidFill>
                  <a:latin typeface="Times New Roman"/>
                </a:rPr>
                <a:t>CONCEPTO CENT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2600" y="3733920"/>
              <a:ext cx="4287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1800" y="6094440"/>
            <a:ext cx="5715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9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ÉDITOS: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duteka.org/modulos.php?catx=4&amp;idSubX=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5143680" cy="4952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1143000"/>
            <a:ext cx="6400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00" y="1752480"/>
            <a:ext cx="1218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12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DIT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duteka.org/modulos.php?catx=4&amp;idSub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1433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9120" y="1676520"/>
            <a:ext cx="149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12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DIT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duteka.org/modulos.php?catx=4&amp;idSub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56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5950080"/>
            <a:ext cx="80769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12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DIT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duteka.org/modulos.php?catx=4&amp;idSub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eduteka.org/reportaje.php3?ReportID=0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eduteka.org/modulos.php?catx=4&amp;idSubX=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eduteka.org/Editorial11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bvs.sld.cu/revistas/ems/vol21_3_07/ems07307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uprm.edu/ideal/avaluo-sala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Organizadores gráf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se represe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l finalizar la clase el estudiante po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Definir mapa de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Explicar qué es un concepto, palabras de enlace y una pro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Identificar la importancia de los mapas de conceptos en la edu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oducir un mapa de conceptos utilizando un programa de aplic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Fueron ideados por Joseph D. Novak para poner en práctica el modelo de aprendizaje significativo de David Ausub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os mapas de conceptos son una herramienta para fortalecer el aprendizaje signifi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te instrumento fue creado para guiar a los estudiantes a aprender y a organizar los materiales de aprendizaje o para encontrar los procedimientos a seguir en la representación del conocimiento, </a:t>
            </a:r>
            <a:r>
              <a:rPr b="0" lang="es-PR" sz="2800" spc="-1" strike="noStrike" u="sng">
                <a:solidFill>
                  <a:srgbClr val="ccccff"/>
                </a:solidFill>
                <a:uFillTx/>
                <a:latin typeface="Arial"/>
              </a:rPr>
              <a:t>organización de los materiales de aprendizaje</a:t>
            </a:r>
            <a:r>
              <a:rPr b="0" lang="es-PR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 para encontrar procedimientos para la solución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on una forma de representar gráficamente la relación que se establece entre diversos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4597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PR" sz="2800" spc="-1" strike="noStrike">
                <a:solidFill>
                  <a:srgbClr val="4597a0"/>
                </a:solidFill>
                <a:latin typeface="Arial"/>
              </a:rPr>
              <a:t>Punto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DejaVu Sans"/>
              </a:rPr>
              <a:t>Los mapas permiten ordenar conceptos previos que conoces, comprender el significado de los nuevos que aprendes, relacionar los conceptos con los previos, clasificar y jerarquizar conceptos claves y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Tienen su origen en las teorías sobre la psicología del aprendizajes de David Ausub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DejaVu Sans"/>
              </a:rPr>
              <a:t>Técnicas o métodos de aprendizaje cuya función es ayudar a la comprensión de los conocimientos que el alumno tiene que apre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DORES GRÁFICOS CONCEP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DejaVu Sans"/>
              </a:rPr>
              <a:t>Técnica para organizar y representar información en forma visual que debe incluir conceptos y relaciones que al enlazarse arman proposiciones. Cuando se construyen pueden tomar una de estas for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Lineales tipo Diagrama de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stémicos - con información ordenada de forma lineal con ingreso y salida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Jerárquicos - cuando la información se organiza en orden ascendente o descen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DejaVu Sans"/>
              </a:rPr>
              <a:t>Son valiosos para construir conocimiento y desarrollar habilidades de pensamiento de orden superior, ya que permiten procesar, organizar y priorizar nueva información, identificar ideas erróneas y visualizar patrones e interrelaciones entre diferentes concep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n un mapa conceptual dos o más conceptos están unidos por una palabra o frase que describe el porqué de esa r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Visualmente, muestran las relaciones ent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os o más conceptos se ligan a través de palabras que describen esta r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l mapa de conceptos permite resumir una serie de términos de forma jerárqu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ontienen lo más esencial del tema o de la idea expl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jercicio de elaboración de mapas conceptuales fomenta la reflexión, el espíritu crítico y la creativid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onen básicamente de tres element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e refiere a hechos, objetos, cualidades y animales, entre otros. Gramaticalmente, los conceptos se identifican como nombres, adjetivos y pronom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labras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on los verbos, las preposiciones, las conjunciones, los adverbios y en general, todas las palabras que no sean un concepto (sustantiv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Es la frase con un significado determinado que se forma por dos o más conceptos unidos por palabras en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ómo se represe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l mapa conceptual es una serie de líneas que se unen en distintos puntos por medio de dos elementos gráficos: la elipse, óvalo o 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áge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y la lín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Los conceptos se colocan dentro de la elipse, mientras las palabras enlace se escriben sobre o junto a la línea que une los concept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La forma dependerá de cómo se van uniendo é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0:49:41Z</dcterms:created>
  <dc:creator>lupe</dc:creator>
  <dc:description/>
  <dc:language>en-US</dc:language>
  <cp:lastModifiedBy>Maria Rosa</cp:lastModifiedBy>
  <dcterms:modified xsi:type="dcterms:W3CDTF">2008-09-26T02:28:37Z</dcterms:modified>
  <cp:revision>61</cp:revision>
  <dc:subject/>
  <dc:title>MAPAS DE CONCEPTOS</dc:title>
</cp:coreProperties>
</file>